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286-4FF1-4DC4-B4A5-F33D2B9D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5A4-8BAF-4E5C-A4C7-0643EAD2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078-CC94-4C93-B962-20F17C22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642-1BB2-43D9-AAEC-2E9CCEAC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9CC-F5EA-43DE-BBC8-01DCAC00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60C-86D2-44CE-96BE-2FF134B5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1A4-866B-4C9D-843D-5033D83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4EF-A7FB-4552-BD8F-536B642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635-44C8-4872-AF00-5FFC059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491-F008-41E2-B4D4-775DF71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F6F-F11F-4DEE-A87A-61C72C4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856-5114-43A6-8E3F-A77C25E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86A-A634-4759-A21C-AC654B38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Притча о талант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9255"/>
          <p:cNvPicPr/>
          <p:nvPr/>
        </p:nvPicPr>
        <p:blipFill>
          <a:blip r:embed="rId1"/>
          <a:stretch/>
        </p:blipFill>
        <p:spPr>
          <a:xfrm>
            <a:off x="2050920" y="1844640"/>
            <a:ext cx="5688000" cy="4543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Monotype Corsiva"/>
              </a:rPr>
              <a:t>Пушкинские места в Москв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Burganov_puskin_natali"/>
          <p:cNvPicPr/>
          <p:nvPr/>
        </p:nvPicPr>
        <p:blipFill>
          <a:blip r:embed="rId1"/>
          <a:stretch/>
        </p:blipFill>
        <p:spPr>
          <a:xfrm>
            <a:off x="971640" y="1989000"/>
            <a:ext cx="25765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pushkin004"/>
          <p:cNvPicPr/>
          <p:nvPr/>
        </p:nvPicPr>
        <p:blipFill>
          <a:blip r:embed="rId2"/>
          <a:srcRect l="0" t="0" r="0" b="16640"/>
          <a:stretch/>
        </p:blipFill>
        <p:spPr>
          <a:xfrm>
            <a:off x="5508720" y="1628640"/>
            <a:ext cx="23065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muzey_imeni_pushkina"/>
          <p:cNvPicPr/>
          <p:nvPr/>
        </p:nvPicPr>
        <p:blipFill>
          <a:blip r:embed="rId3"/>
          <a:stretch/>
        </p:blipFill>
        <p:spPr>
          <a:xfrm>
            <a:off x="5364000" y="443700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Отче наш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810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Я слышал — в келии простой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Старик молитвою чудесной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олился тихо предо мн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"Отец людей, Отец Небесный!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Да имя вечное Тво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Святится нашими сердцами;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Да придет Царствие Тво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воя да будет воля с нам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Как в небесах, так на зем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Насущный хлеб нам ниспошл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Своею щедрою рукою;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1480" y="1557000"/>
            <a:ext cx="38102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 как прощаем мы людей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ак нас, ничтожных пред Тобою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Прости, Отец, Своих детей;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Не ввергни нас во искушень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 от лукавого прельщенья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збави нас!.."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Перед крестом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ак он молился. Свет лампады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ерцал впотьмах издалек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 сердце чуяло отраду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т той молитвы стар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mgpreview"/>
          <p:cNvPicPr/>
          <p:nvPr/>
        </p:nvPicPr>
        <p:blipFill>
          <a:blip r:embed="rId1"/>
          <a:stretch/>
        </p:blipFill>
        <p:spPr>
          <a:xfrm>
            <a:off x="395280" y="404640"/>
            <a:ext cx="1224000" cy="115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object_73"/>
          <p:cNvPicPr/>
          <p:nvPr/>
        </p:nvPicPr>
        <p:blipFill>
          <a:blip r:embed="rId1"/>
          <a:stretch/>
        </p:blipFill>
        <p:spPr>
          <a:xfrm>
            <a:off x="395280" y="2060640"/>
            <a:ext cx="280836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ом – музей Чайковского в Кли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klin004"/>
          <p:cNvPicPr/>
          <p:nvPr/>
        </p:nvPicPr>
        <p:blipFill>
          <a:blip r:embed="rId2"/>
          <a:stretch/>
        </p:blipFill>
        <p:spPr>
          <a:xfrm>
            <a:off x="4140360" y="1341360"/>
            <a:ext cx="347328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DSC02941"/>
          <p:cNvPicPr/>
          <p:nvPr/>
        </p:nvPicPr>
        <p:blipFill>
          <a:blip r:embed="rId3"/>
          <a:srcRect l="0" t="0" r="0" b="13900"/>
          <a:stretch/>
        </p:blipFill>
        <p:spPr>
          <a:xfrm>
            <a:off x="4211640" y="4005360"/>
            <a:ext cx="3384720" cy="252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Чайковский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«Детский альб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9785962800318"/>
          <p:cNvPicPr/>
          <p:nvPr/>
        </p:nvPicPr>
        <p:blipFill>
          <a:blip r:embed="rId1"/>
          <a:stretch/>
        </p:blipFill>
        <p:spPr>
          <a:xfrm>
            <a:off x="3708360" y="2349360"/>
            <a:ext cx="3024360" cy="3232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494172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Monotype Corsiva"/>
              </a:rPr>
              <a:t>«Утренняя молит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._CHaykovskiy_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875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73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Monotype Corsiva"/>
              </a:rPr>
              <a:t>Воспевание мира, созданного Творц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Благословляю вас, л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Долины, нивы, горы, в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Благословляю я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И голубые небе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И посох мой благословл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И эту бедную су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81480" y="1915920"/>
            <a:ext cx="38102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степь от краю и до кр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солнца свет, и ночи ть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одинокую троп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По коей, нищий, я и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в поле каждую был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в небе каждую звез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А. К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tolstoy-a-k"/>
          <p:cNvPicPr/>
          <p:nvPr/>
        </p:nvPicPr>
        <p:blipFill>
          <a:blip r:embed="rId1"/>
          <a:stretch/>
        </p:blipFill>
        <p:spPr>
          <a:xfrm>
            <a:off x="366840" y="333360"/>
            <a:ext cx="1315800" cy="1655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0245"/>
          <p:cNvPicPr/>
          <p:nvPr/>
        </p:nvPicPr>
        <p:blipFill>
          <a:blip r:embed="rId1"/>
          <a:srcRect l="8120" t="14355" r="8808" b="0"/>
          <a:stretch/>
        </p:blipFill>
        <p:spPr>
          <a:xfrm>
            <a:off x="1403280" y="1628640"/>
            <a:ext cx="360036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К. Толстой (1817 - 18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эма «Иоанн Дамаскин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88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Arial"/>
              </a:rPr>
              <a:t>Житие Иоанна Дамас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8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оанн Дамаскин – византийский богослов, поэт, сочинитель духовных гимнов, живший в 8 веке в Дама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amaskin"/>
          <p:cNvPicPr/>
          <p:nvPr/>
        </p:nvPicPr>
        <p:blipFill>
          <a:blip r:embed="rId2"/>
          <a:stretch/>
        </p:blipFill>
        <p:spPr>
          <a:xfrm>
            <a:off x="1476360" y="1989000"/>
            <a:ext cx="3240000" cy="417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ргей Танеев (1856 - 1915)  -  русский компози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8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тата «Иоанн Дамаскин» - музыкальное произведение для хора и симфонического орк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taneyev (1)"/>
          <p:cNvPicPr/>
          <p:nvPr/>
        </p:nvPicPr>
        <p:blipFill>
          <a:blip r:embed="rId2"/>
          <a:stretch/>
        </p:blipFill>
        <p:spPr>
          <a:xfrm>
            <a:off x="1476360" y="1989000"/>
            <a:ext cx="3684600" cy="4464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Иоанн Дамас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.И. Танеев, кантата Иоанн Дамаскин.wmv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975640" cy="448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80" dur="indefinite" restart="never" nodeType="tmRoot">
          <p:childTnLst>
            <p:seq>
              <p:cTn id="48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Monotype Corsiva"/>
              </a:rPr>
              <a:t>Любовь к  ближне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Monotype Corsiva"/>
              </a:rPr>
              <a:t>Заповедь новую даю вам, да </a:t>
            </a:r>
            <a:r>
              <a:rPr b="1" i="1" lang="ru-RU" sz="3600" spc="-1" strike="noStrike" u="sng">
                <a:solidFill>
                  <a:srgbClr val="660033"/>
                </a:solidFill>
                <a:uFillTx/>
                <a:latin typeface="Monotype Corsiva"/>
              </a:rPr>
              <a:t>любите друг друга; как  Я возлюбил вас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Евангелие от Иоанна гл.13, стих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taynaya_vecherya_rublev_tsl"/>
          <p:cNvPicPr/>
          <p:nvPr/>
        </p:nvPicPr>
        <p:blipFill>
          <a:blip r:embed="rId1"/>
          <a:stretch/>
        </p:blipFill>
        <p:spPr>
          <a:xfrm>
            <a:off x="1538280" y="2057400"/>
            <a:ext cx="3171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kona12a (1)"/>
          <p:cNvPicPr/>
          <p:nvPr/>
        </p:nvPicPr>
        <p:blipFill>
          <a:blip r:embed="rId1"/>
          <a:srcRect l="0" t="9307" r="0" b="0"/>
          <a:stretch/>
        </p:blipFill>
        <p:spPr>
          <a:xfrm>
            <a:off x="2316240" y="620640"/>
            <a:ext cx="5583240" cy="6048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Monotype Corsiva"/>
              </a:rPr>
              <a:t>Любовь к  ближнем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"Люби!" - поют шуршащие березы,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Когда на них сережки расцве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"Люби!" - поет сирень в цветной пы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"Люби! Люби!" - поют, пылая, розы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Страшись безлюбья. И беги угрозы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Бесстрастия. Твой полдень вмиг - вда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Твою зарю теченья зорь сожг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Люби любовь. Люби огонь и грезы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81480" y="1916280"/>
            <a:ext cx="381024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4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то не любил, не выполнил закон,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оторым в мире движутся созвездья,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оторым так прекрасен небосклон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Он в каждом часе слышит мертвый звон.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Ему никак не избежать возмездья.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то любит, счастлив. Пусть хоть распя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                                  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. Баль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20px-Konstantin_Balmont_by_Valentin_Serov_1905"/>
          <p:cNvPicPr/>
          <p:nvPr/>
        </p:nvPicPr>
        <p:blipFill>
          <a:blip r:embed="rId1"/>
          <a:srcRect l="0" t="0" r="0" b="39982"/>
          <a:stretch/>
        </p:blipFill>
        <p:spPr>
          <a:xfrm>
            <a:off x="324000" y="18900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Темы христиан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06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Monotype Corsiva"/>
              </a:rPr>
              <a:t>Любов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0033"/>
                </a:solidFill>
                <a:uFillTx/>
                <a:latin typeface="Monotype Corsiva"/>
              </a:rPr>
              <a:t>к Бог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Храм Триоцы на Репне"/>
          <p:cNvPicPr/>
          <p:nvPr/>
        </p:nvPicPr>
        <p:blipFill>
          <a:blip r:embed="rId1"/>
          <a:stretch/>
        </p:blipFill>
        <p:spPr>
          <a:xfrm>
            <a:off x="5181480" y="2225520"/>
            <a:ext cx="3810240" cy="3776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Темы христиан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Monotype Corsiva"/>
              </a:rPr>
              <a:t>Любов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0033"/>
                </a:solidFill>
                <a:uFillTx/>
                <a:latin typeface="Monotype Corsiva"/>
              </a:rPr>
              <a:t>к мир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IMG_2874"/>
          <p:cNvPicPr/>
          <p:nvPr/>
        </p:nvPicPr>
        <p:blipFill>
          <a:blip r:embed="rId1"/>
          <a:stretch/>
        </p:blipFill>
        <p:spPr>
          <a:xfrm>
            <a:off x="4500720" y="2133720"/>
            <a:ext cx="3809880" cy="3483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Темы христиан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Monotype Corsiva"/>
              </a:rPr>
              <a:t>Любов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33"/>
                </a:solidFill>
                <a:latin typeface="Monotype Corsiva"/>
              </a:rPr>
              <a:t>К  ближне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IMG_1269"/>
          <p:cNvPicPr/>
          <p:nvPr/>
        </p:nvPicPr>
        <p:blipFill>
          <a:blip r:embed="rId1"/>
          <a:srcRect l="10653" t="0" r="0" b="0"/>
          <a:stretch/>
        </p:blipFill>
        <p:spPr>
          <a:xfrm>
            <a:off x="5003640" y="256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вященное 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0360" y="2057400"/>
            <a:ext cx="4491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начале сотворил Бог небо и зем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емля же была безвидна и пуста, и тьма над бездно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5097_640"/>
          <p:cNvPicPr/>
          <p:nvPr/>
        </p:nvPicPr>
        <p:blipFill>
          <a:blip r:embed="rId1"/>
          <a:stretch/>
        </p:blipFill>
        <p:spPr>
          <a:xfrm>
            <a:off x="395280" y="1700280"/>
            <a:ext cx="403236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нстантин  БАЛЬМОНТ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1867 - 19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20px-Konstantin_Balmont_by_Valentin_Serov_1905"/>
          <p:cNvPicPr/>
          <p:nvPr/>
        </p:nvPicPr>
        <p:blipFill>
          <a:blip r:embed="rId1"/>
          <a:stretch/>
        </p:blipFill>
        <p:spPr>
          <a:xfrm>
            <a:off x="468360" y="1981080"/>
            <a:ext cx="2951280" cy="454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6920" y="1268280"/>
            <a:ext cx="4390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ог создал мир из нич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ись, художник, у него,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, если твой талант круп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делай с нею чуд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зрасти безмерные л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 сам, как сказочная пт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мчись высоко в неб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де светит вольная зар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де вечный облачный при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ежит по бездне голу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Христианские  мотивы в творчестве русских поэтов и композиторов</a:t>
            </a:r>
            <a:r>
              <a:rPr b="1" lang="en-US" sz="4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живших в Москве и Подмосковье</a:t>
            </a:r>
            <a:r>
              <a:rPr b="1" lang="en-US" sz="4800" spc="-1" strike="noStrike">
                <a:solidFill>
                  <a:srgbClr val="000066"/>
                </a:solidFill>
                <a:latin typeface="Monotype Corsiv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7161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тив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прохождение через всё творчество или художественное произведение какой-либ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ённой 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Monotype Corsiva"/>
              </a:rPr>
              <a:t>«Бог создал мир из ничего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20500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Monotype Corsiva"/>
              </a:rPr>
              <a:t>Бог - Творец   всего суще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Monotype Corsiva"/>
              </a:rPr>
              <a:t>Как мы должны относиться к н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Monotype Corsiva"/>
              </a:rPr>
              <a:t>Любовь к Бог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4190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Monotype Corsiva"/>
              </a:rPr>
              <a:t>Молитва – разговор человека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07642614"/>
          <p:cNvPicPr/>
          <p:nvPr/>
        </p:nvPicPr>
        <p:blipFill>
          <a:blip r:embed="rId1"/>
          <a:srcRect l="0" t="0" r="0" b="10202"/>
          <a:stretch/>
        </p:blipFill>
        <p:spPr>
          <a:xfrm>
            <a:off x="3348000" y="177336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360" y="6854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Monotype Corsiva"/>
              </a:rPr>
              <a:t>Любовь к Бог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Молитесь же так: Отче наш, сущий на небесах! да святится имя Твое; да приидет Царствие Твое; да будет воля Твоя и на земле, как на небе; хлеб наш насущный дай нам на сей день; и прости нам долги наши, как и мы прощаем должникам нашим; и не введи нас в искушение, но избавь нас от лукавого. Ибо Твое есть Царство и сила и слава во веки. Аминь. (Матф.6:9-1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ушкин в Москв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ая Москвы, края родные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на заре цветущих лет 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ы беспечности я тратил золотые, 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 зная горести и бед.    А. 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x2-019"/>
          <p:cNvPicPr/>
          <p:nvPr/>
        </p:nvPicPr>
        <p:blipFill>
          <a:blip r:embed="rId1"/>
          <a:stretch/>
        </p:blipFill>
        <p:spPr>
          <a:xfrm>
            <a:off x="1366920" y="2057400"/>
            <a:ext cx="3514680" cy="4114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09:19:35Z</dcterms:created>
  <dc:creator>Мама</dc:creator>
  <dc:description/>
  <dc:language>en-US</dc:language>
  <cp:lastModifiedBy>Марина</cp:lastModifiedBy>
  <dcterms:modified xsi:type="dcterms:W3CDTF">2013-04-15T07:35:27Z</dcterms:modified>
  <cp:revision>18</cp:revision>
  <dc:subject/>
  <dc:title>Христианские  мотивы в творчестве русских поэтов и композиторов</dc:title>
</cp:coreProperties>
</file>